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B17-117A-4BE1-A035-B0553D3AD1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E2F-0AAE-4FC3-BF37-D390EE4D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907-4604-4CCA-8F9F-FCB4C08E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754-FD30-4540-87D8-67CFABEE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9BB-0C4D-453B-81E4-24D0523A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642E-69C7-43B5-8E89-71FEEA52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6E12-A087-4C0F-8BD2-A7F41EB9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678E-8DBC-4C8F-A802-001E8EB8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252D-AE22-4CF6-A5F7-8DCB3D9D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2851-649B-44AF-BF25-69B07A6D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A383-CA14-4747-8410-BB1C100A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9337-E5E1-47EA-B35F-38362FED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F84-BA63-4281-B872-35C2DD41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8923-FAFB-4145-B6AE-E437F28B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DE23-CD80-44CA-9A96-B55752A2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8513-ED43-48F1-8B1E-6743FA12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B4FE-A0C5-489C-8E74-30296AB3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4A1C-9ECD-4E5C-963D-881F9D92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25B-1B8D-49A5-B6CD-71DBE8E2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634-9D8E-4166-9E83-F030B70D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E34-8AF0-4ED5-BF93-27A64A5C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9BA-3689-40CA-A338-C821D857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9F7-6FC2-45AA-B48E-F0992990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AF9-A590-4089-A4D2-EFAE12F6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B9A-2487-4523-83F8-3430DC7E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4E5D-F45D-45A1-A198-78DDDFE9A2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8D50-C149-4713-B621-3328EDE2B04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5" descr="HIV_attachment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Picture 5" descr="nature06364-f1"/>
          <p:cNvPicPr/>
          <p:nvPr/>
        </p:nvPicPr>
        <p:blipFill>
          <a:blip r:embed="rId1"/>
          <a:stretch/>
        </p:blipFill>
        <p:spPr>
          <a:xfrm>
            <a:off x="2340000" y="1773360"/>
            <a:ext cx="680400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 - Struct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5" descr="hiv1"/>
          <p:cNvPicPr/>
          <p:nvPr/>
        </p:nvPicPr>
        <p:blipFill>
          <a:blip r:embed="rId1"/>
          <a:stretch/>
        </p:blipFill>
        <p:spPr>
          <a:xfrm>
            <a:off x="2484360" y="1557360"/>
            <a:ext cx="63356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Receptors for everything (!!!) that fits into the shape </a:t>
            </a:r>
            <a:br>
              <a:rPr sz="3200"/>
            </a:b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(lock and Key model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5" descr="cell-binding-to-toxins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Amoeb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5" descr="amoeba"/>
          <p:cNvPicPr/>
          <p:nvPr/>
        </p:nvPicPr>
        <p:blipFill>
          <a:blip r:embed="rId1"/>
          <a:stretch/>
        </p:blipFill>
        <p:spPr>
          <a:xfrm>
            <a:off x="4705200" y="3213000"/>
            <a:ext cx="4438800" cy="347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moeba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596360" y="260280"/>
            <a:ext cx="154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c0039"/>
                </a:solidFill>
                <a:latin typeface="Arial"/>
              </a:rPr>
              <a:t>Without the cell surface receptors, the amoeba will not find where the foo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11280" y="378936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58bf9"/>
                </a:solidFill>
                <a:latin typeface="Arial"/>
              </a:rPr>
              <a:t>Unicellular organism living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5" descr="c11x10hormone-receptors2"/>
          <p:cNvPicPr/>
          <p:nvPr/>
        </p:nvPicPr>
        <p:blipFill>
          <a:blip r:embed="rId1"/>
          <a:stretch/>
        </p:blipFill>
        <p:spPr>
          <a:xfrm>
            <a:off x="2340000" y="1268280"/>
            <a:ext cx="655308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2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lockandkey"/>
          <p:cNvPicPr/>
          <p:nvPr/>
        </p:nvPicPr>
        <p:blipFill>
          <a:blip r:embed="rId1"/>
          <a:stretch/>
        </p:blipFill>
        <p:spPr>
          <a:xfrm>
            <a:off x="2340000" y="1700280"/>
            <a:ext cx="655308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molecules_receptors"/>
          <p:cNvPicPr/>
          <p:nvPr/>
        </p:nvPicPr>
        <p:blipFill>
          <a:blip r:embed="rId1"/>
          <a:stretch/>
        </p:blipFill>
        <p:spPr>
          <a:xfrm>
            <a:off x="2411280" y="1125360"/>
            <a:ext cx="6408720" cy="5426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5" descr="Slide2"/>
          <p:cNvPicPr/>
          <p:nvPr/>
        </p:nvPicPr>
        <p:blipFill>
          <a:blip r:embed="rId1"/>
          <a:stretch/>
        </p:blipFill>
        <p:spPr>
          <a:xfrm>
            <a:off x="2390760" y="1790640"/>
            <a:ext cx="6753240" cy="50673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Picture 5" descr="displayImage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141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Beta blo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Picture 5" descr="bb"/>
          <p:cNvPicPr/>
          <p:nvPr/>
        </p:nvPicPr>
        <p:blipFill>
          <a:blip r:embed="rId1"/>
          <a:stretch/>
        </p:blipFill>
        <p:spPr>
          <a:xfrm>
            <a:off x="2411280" y="1700280"/>
            <a:ext cx="2619360" cy="27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eart-Failure"/>
          <p:cNvPicPr/>
          <p:nvPr/>
        </p:nvPicPr>
        <p:blipFill>
          <a:blip r:embed="rId2"/>
          <a:stretch/>
        </p:blipFill>
        <p:spPr>
          <a:xfrm>
            <a:off x="5148360" y="3619440"/>
            <a:ext cx="39956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6000" y="18900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24000" y="4437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" name="Picture 5" descr="HIV1%20copy"/>
          <p:cNvPicPr/>
          <p:nvPr/>
        </p:nvPicPr>
        <p:blipFill>
          <a:blip r:embed="rId1"/>
          <a:stretch/>
        </p:blipFill>
        <p:spPr>
          <a:xfrm>
            <a:off x="2484360" y="1268280"/>
            <a:ext cx="6659640" cy="5185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37:02Z</dcterms:created>
  <dc:creator>User</dc:creator>
  <dc:description/>
  <dc:language>en-US</dc:language>
  <cp:lastModifiedBy>LEGION2</cp:lastModifiedBy>
  <dcterms:modified xsi:type="dcterms:W3CDTF">2016-01-11T13:11:56Z</dcterms:modified>
  <cp:revision>6</cp:revision>
  <dc:subject/>
  <dc:title>Communication and Cell Signalling</dc:title>
</cp:coreProperties>
</file>